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A500-5B8E-4712-9B25-C00991E1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D4DB-03C5-4990-B42C-A94CE0F7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C964-FD9B-44A0-BBC1-46273363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D7A3-7201-4A55-9E6A-25B7A492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0AFE-B854-459B-9D79-A979B07B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8D1-F028-4BDF-BE77-F6E095A2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9830-563B-485E-BB3C-5E4F2D81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B5A-5506-4034-8DF6-D671ECCF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18CF-7663-4FF0-B92F-047482F5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49E2-216F-4B7B-AC9C-C0A22126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4AA-136A-4473-A8F2-245138DE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DFF-47E7-4F2E-9BD6-74B840E8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EDF2-DDEC-4850-886D-BD282649C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French Script MT"/>
              </a:rPr>
              <a:t>By Jasmine Morg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95480" y="1600200"/>
            <a:ext cx="3581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Acapulc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ILTON HEAD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GALVE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KEM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66880" y="304920"/>
            <a:ext cx="36673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339966">
                    <a:alpha val="82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Great Locations</a:t>
            </a:r>
            <a:endParaRPr b="0" lang="en-US" sz="1800" spc="1" strike="noStrike">
              <a:ln w="9360">
                <a:solidFill>
                  <a:srgbClr val="33cccc"/>
                </a:solidFill>
                <a:miter/>
              </a:ln>
              <a:solidFill>
                <a:srgbClr val="339966">
                  <a:alpha val="82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2895840" cy="1752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3581640" cy="1838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295280" y="3962520"/>
            <a:ext cx="28958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ORA B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HAWA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JAMA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UERTO 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ERTAL B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676520" y="228600"/>
            <a:ext cx="4724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THE WORLD'S MOST BEAUTIFUL BEACHES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352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S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 Bree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utiful Sun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l a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76720" y="380880"/>
            <a:ext cx="2819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eath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ley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Cas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ding Yac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05320" y="609480"/>
            <a:ext cx="22860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Activti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6:32:08Z</dcterms:created>
  <dc:creator>004student</dc:creator>
  <dc:description/>
  <dc:language>en-US</dc:language>
  <cp:lastModifiedBy>004student</cp:lastModifiedBy>
  <dcterms:modified xsi:type="dcterms:W3CDTF">2009-01-23T17:16:24Z</dcterms:modified>
  <cp:revision>2</cp:revision>
  <dc:subject/>
  <dc:title>Slide 1</dc:title>
</cp:coreProperties>
</file>